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135938" cy="9831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9880" y="685440"/>
            <a:ext cx="2838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E77C550-2C61-4DC7-A77A-52FDAD2AA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2009880" y="685800"/>
            <a:ext cx="283824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4653B41-A3F5-44FA-A407-5882CDEBB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6F6-E1CD-495B-B774-A1C93E9C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440" y="2293920"/>
            <a:ext cx="73245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40" y="5682240"/>
            <a:ext cx="73245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73C-5AEF-44E3-A620-AA8C9A3F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440" y="229392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9440" y="229392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440" y="568224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59440" y="568224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77A-5B0D-4246-8034-E1CABD4E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440" y="2293920"/>
            <a:ext cx="23583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3240" y="2293920"/>
            <a:ext cx="23583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9680" y="2293920"/>
            <a:ext cx="23583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440" y="5682240"/>
            <a:ext cx="23583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3240" y="5682240"/>
            <a:ext cx="23583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9680" y="5682240"/>
            <a:ext cx="23583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EAA-6C05-42D9-A91C-83F2CA59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440" y="2293920"/>
            <a:ext cx="7324560" cy="64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B1D-0F78-4C11-B60E-088996BD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440" y="2293920"/>
            <a:ext cx="7324560" cy="6486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1DB-9C92-4AEF-9656-932683F8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440" y="2293920"/>
            <a:ext cx="3574080" cy="6486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59440" y="2293920"/>
            <a:ext cx="3574080" cy="6486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886-2F3B-4921-BC11-C44126BF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6ED-3610-48CC-A36E-D593CAE6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393840"/>
            <a:ext cx="7324560" cy="75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627-875E-4A1C-976D-0E911C27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440" y="229392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59440" y="2293920"/>
            <a:ext cx="3574080" cy="6486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440" y="568224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78A-1CA8-4E95-8F58-CA6FA653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440" y="2293920"/>
            <a:ext cx="3574080" cy="6486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59440" y="229392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59440" y="568224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A0A-26C2-470A-8F78-6817B256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440" y="229392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59440" y="229392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440" y="5682240"/>
            <a:ext cx="73245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DB9-1B2B-4527-B2BA-650B8850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440" y="2293920"/>
            <a:ext cx="7324560" cy="6486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66800" indent="-293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79360" indent="-234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52760" indent="-235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24000" indent="-234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24000" indent="-234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24000" indent="-234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6440" y="9110520"/>
            <a:ext cx="1898640" cy="524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9560" y="9110520"/>
            <a:ext cx="2578320" cy="524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32360" y="9110520"/>
            <a:ext cx="1898640" cy="524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8CA2427-7A01-4B2F-916B-C91975D6A064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shondemela.webs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532240" y="0"/>
            <a:ext cx="307332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SutonnyMJ"/>
                <a:ea typeface="SutonnyMJ"/>
              </a:rPr>
              <a:t>Q›` †gjv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faija\AppData\Local\Microsoft\Windows\Temporary Internet Files\Content.IE5\AURIA7Q3\border_art_nouveau_lyotta_by_lyotta-d66x5vq[1].png"/>
          <p:cNvPicPr/>
          <p:nvPr/>
        </p:nvPicPr>
        <p:blipFill>
          <a:blip r:embed="rId1"/>
          <a:stretch/>
        </p:blipFill>
        <p:spPr>
          <a:xfrm>
            <a:off x="1249200" y="2192400"/>
            <a:ext cx="6400800" cy="7637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361800" y="1890720"/>
            <a:ext cx="361656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en-US" sz="4300" spc="-1" strike="noStrike">
                <a:solidFill>
                  <a:srgbClr val="7030a0"/>
                </a:solidFill>
                <a:latin typeface="SutonnyMJ"/>
                <a:ea typeface="SutonnyMJ"/>
              </a:rPr>
              <a:t>mevi  Rb¨ Db¥³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:\Users\faija\AppData\Local\Microsoft\Windows\Temporary Internet Files\Content.IE5\N53VF8NA\large-Flower-spring-0-12122[1].gif"/>
          <p:cNvPicPr/>
          <p:nvPr/>
        </p:nvPicPr>
        <p:blipFill>
          <a:blip r:embed="rId2"/>
          <a:stretch/>
        </p:blipFill>
        <p:spPr>
          <a:xfrm>
            <a:off x="5745240" y="190440"/>
            <a:ext cx="1371600" cy="1212840"/>
          </a:xfrm>
          <a:prstGeom prst="rect">
            <a:avLst/>
          </a:prstGeom>
          <a:ln w="0">
            <a:noFill/>
          </a:ln>
        </p:spPr>
      </p:pic>
      <p:sp>
        <p:nvSpPr>
          <p:cNvPr id="52" name="TextBox 9"/>
          <p:cNvSpPr/>
          <p:nvPr/>
        </p:nvSpPr>
        <p:spPr>
          <a:xfrm>
            <a:off x="995400" y="3174840"/>
            <a:ext cx="26208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SutonnyMJ"/>
                <a:ea typeface="SutonnyMJ"/>
              </a:rPr>
              <a:t>KweZv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SutonnyMJ"/>
                <a:ea typeface="SutonnyMJ"/>
              </a:rPr>
              <a:t>Mí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SutonnyMJ"/>
                <a:ea typeface="SutonnyMJ"/>
              </a:rPr>
              <a:t>iPbv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SutonnyMJ"/>
                <a:ea typeface="SutonnyMJ"/>
              </a:rPr>
              <a:t>Qwe AvuKv|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2260440" y="6892920"/>
            <a:ext cx="34354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SutonnyMJ"/>
                <a:ea typeface="SutonnyMJ"/>
              </a:rPr>
              <a:t> †</a:t>
            </a:r>
            <a:r>
              <a:rPr b="1" lang="en-US" sz="1700" spc="-1" strike="noStrike">
                <a:solidFill>
                  <a:srgbClr val="000000"/>
                </a:solidFill>
                <a:latin typeface="SutonnyMJ"/>
                <a:ea typeface="SutonnyMJ"/>
              </a:rPr>
              <a:t>mŠRb¨t †gvt iweDj Bmjvg(iw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Users\faija\AppData\Local\Microsoft\Windows\Temporary Internet Files\Content.IE5\3A0Y2GHK\Picture16[1].gif"/>
          <p:cNvPicPr/>
          <p:nvPr/>
        </p:nvPicPr>
        <p:blipFill>
          <a:blip r:embed="rId3"/>
          <a:stretch/>
        </p:blipFill>
        <p:spPr>
          <a:xfrm>
            <a:off x="452520" y="0"/>
            <a:ext cx="1536480" cy="1341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1630440" y="5753160"/>
            <a:ext cx="3352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shondemela.webs.com/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1T08:36:48Z</dcterms:created>
  <dc:creator>faija</dc:creator>
  <dc:description/>
  <dc:language>en-US</dc:language>
  <cp:lastModifiedBy>faija</cp:lastModifiedBy>
  <dcterms:modified xsi:type="dcterms:W3CDTF">2016-04-04T22:48:55Z</dcterms:modified>
  <cp:revision>7</cp:revision>
  <dc:subject/>
  <dc:title>Slide 1</dc:title>
</cp:coreProperties>
</file>