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8135938" cy="98313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9880" y="685440"/>
            <a:ext cx="2838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17643EF-A313-4DEC-84C1-085B961A93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2009880" y="685800"/>
            <a:ext cx="283824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23C251C-0194-4447-8E74-74335F7320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D666-1FA7-406B-A999-F50C643E1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6440" y="393840"/>
            <a:ext cx="7324560" cy="16380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06440" y="2293920"/>
            <a:ext cx="7324560" cy="3093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6440" y="5682240"/>
            <a:ext cx="7324560" cy="3093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B217-6DD4-417B-9436-FBF63FBE9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6440" y="393840"/>
            <a:ext cx="7324560" cy="16380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06440" y="2293920"/>
            <a:ext cx="3574080" cy="3093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59440" y="2293920"/>
            <a:ext cx="3574080" cy="3093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06440" y="5682240"/>
            <a:ext cx="3574080" cy="3093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59440" y="5682240"/>
            <a:ext cx="3574080" cy="3093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2AF0-2B0F-4A62-8A79-138D4A5E8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6440" y="393840"/>
            <a:ext cx="7324560" cy="16380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06440" y="2293920"/>
            <a:ext cx="2358360" cy="3093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83240" y="2293920"/>
            <a:ext cx="2358360" cy="3093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59680" y="2293920"/>
            <a:ext cx="2358360" cy="3093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06440" y="5682240"/>
            <a:ext cx="2358360" cy="3093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83240" y="5682240"/>
            <a:ext cx="2358360" cy="3093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59680" y="5682240"/>
            <a:ext cx="2358360" cy="3093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DEF6-333D-4574-9D99-42D4CBE40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6440" y="393840"/>
            <a:ext cx="7324560" cy="16380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06440" y="2293920"/>
            <a:ext cx="7324560" cy="64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B56E-4A7C-41AA-8958-F33733FE0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440" y="393840"/>
            <a:ext cx="7324560" cy="16380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06440" y="2293920"/>
            <a:ext cx="7324560" cy="64864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0315-CD6E-40C9-BF18-73588D437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440" y="393840"/>
            <a:ext cx="7324560" cy="16380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06440" y="2293920"/>
            <a:ext cx="3574080" cy="64864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59440" y="2293920"/>
            <a:ext cx="3574080" cy="64864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09D4-C2B0-4F90-81C0-504FBB6C1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440" y="393840"/>
            <a:ext cx="7324560" cy="16380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9472-B184-49F1-B3C8-45F53EC54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6440" y="393840"/>
            <a:ext cx="7324560" cy="75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9889-D811-4234-8ADF-3ED617854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440" y="393840"/>
            <a:ext cx="7324560" cy="16380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6440" y="2293920"/>
            <a:ext cx="3574080" cy="3093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59440" y="2293920"/>
            <a:ext cx="3574080" cy="64864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06440" y="5682240"/>
            <a:ext cx="3574080" cy="3093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7FC6-6AA2-4FC3-95BA-5023A262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6440" y="393840"/>
            <a:ext cx="7324560" cy="16380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6440" y="2293920"/>
            <a:ext cx="3574080" cy="64864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59440" y="2293920"/>
            <a:ext cx="3574080" cy="3093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59440" y="5682240"/>
            <a:ext cx="3574080" cy="3093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FD57-D968-4117-A940-74872FCE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6440" y="393840"/>
            <a:ext cx="7324560" cy="16380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06440" y="2293920"/>
            <a:ext cx="3574080" cy="3093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59440" y="2293920"/>
            <a:ext cx="3574080" cy="3093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06440" y="5682240"/>
            <a:ext cx="7324560" cy="3093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EA14-8662-4860-80F5-0DE240FE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393840"/>
            <a:ext cx="7324560" cy="16380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06440" y="2293920"/>
            <a:ext cx="7324560" cy="64864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rmAutofit/>
          </a:bodyPr>
          <a:p>
            <a:pPr marL="353880" indent="-35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66800" indent="-293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79360" indent="-234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52760" indent="-235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124000" indent="-234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124000" indent="-234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124000" indent="-234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06440" y="9110520"/>
            <a:ext cx="1898640" cy="5241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79560" y="9110520"/>
            <a:ext cx="2578320" cy="5241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ctr">
            <a:noAutofit/>
          </a:bodyPr>
          <a:p>
            <a: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832360" y="9110520"/>
            <a:ext cx="1898640" cy="5241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180414B-C60C-4FE7-A5E4-4E00D4D66E6B}" type="slidenum">
              <a:rPr b="0" lang="en-US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hyperlink" Target="http://shondemela.webs.com/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2532240" y="0"/>
            <a:ext cx="3073320" cy="19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SutonnyMJ"/>
                <a:ea typeface="SutonnyMJ"/>
              </a:rPr>
              <a:t>Q›` †gjv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C:\Users\faija\AppData\Local\Microsoft\Windows\Temporary Internet Files\Content.IE5\AURIA7Q3\border_art_nouveau_lyotta_by_lyotta-d66x5vq[1].png"/>
          <p:cNvPicPr/>
          <p:nvPr/>
        </p:nvPicPr>
        <p:blipFill>
          <a:blip r:embed="rId1"/>
          <a:stretch/>
        </p:blipFill>
        <p:spPr>
          <a:xfrm>
            <a:off x="1249200" y="2192400"/>
            <a:ext cx="6400800" cy="763740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361800" y="1890720"/>
            <a:ext cx="3616560" cy="14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en-US" sz="4300" spc="-1" strike="noStrike">
                <a:solidFill>
                  <a:srgbClr val="7030a0"/>
                </a:solidFill>
                <a:latin typeface="SutonnyMJ"/>
                <a:ea typeface="SutonnyMJ"/>
              </a:rPr>
              <a:t>mevi  Rb¨ Db¥³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C:\Users\faija\AppData\Local\Microsoft\Windows\Temporary Internet Files\Content.IE5\N53VF8NA\large-Flower-spring-0-12122[1].gif"/>
          <p:cNvPicPr/>
          <p:nvPr/>
        </p:nvPicPr>
        <p:blipFill>
          <a:blip r:embed="rId2"/>
          <a:stretch/>
        </p:blipFill>
        <p:spPr>
          <a:xfrm>
            <a:off x="5745240" y="190440"/>
            <a:ext cx="1371600" cy="1212840"/>
          </a:xfrm>
          <a:prstGeom prst="rect">
            <a:avLst/>
          </a:prstGeom>
          <a:ln w="0">
            <a:noFill/>
          </a:ln>
        </p:spPr>
      </p:pic>
      <p:sp>
        <p:nvSpPr>
          <p:cNvPr id="52" name="TextBox 9"/>
          <p:cNvSpPr/>
          <p:nvPr/>
        </p:nvSpPr>
        <p:spPr>
          <a:xfrm>
            <a:off x="995400" y="3174840"/>
            <a:ext cx="2620800" cy="29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SutonnyMJ"/>
                <a:ea typeface="SutonnyMJ"/>
              </a:rPr>
              <a:t>KweZv;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SutonnyMJ"/>
                <a:ea typeface="SutonnyMJ"/>
              </a:rPr>
              <a:t>Mí;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SutonnyMJ"/>
                <a:ea typeface="SutonnyMJ"/>
              </a:rPr>
              <a:t>iPbv;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SutonnyMJ"/>
                <a:ea typeface="SutonnyMJ"/>
              </a:rPr>
              <a:t>Qwe AvuKv|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0"/>
          <p:cNvSpPr/>
          <p:nvPr/>
        </p:nvSpPr>
        <p:spPr>
          <a:xfrm>
            <a:off x="2260440" y="6892920"/>
            <a:ext cx="343548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SutonnyMJ"/>
                <a:ea typeface="SutonnyMJ"/>
              </a:rPr>
              <a:t> †</a:t>
            </a:r>
            <a:r>
              <a:rPr b="1" lang="en-US" sz="1700" spc="-1" strike="noStrike">
                <a:solidFill>
                  <a:srgbClr val="000000"/>
                </a:solidFill>
                <a:latin typeface="SutonnyMJ"/>
                <a:ea typeface="SutonnyMJ"/>
              </a:rPr>
              <a:t>mŠRb¨t †gvt iweDj Bmjvg(iw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C:\Users\faija\AppData\Local\Microsoft\Windows\Temporary Internet Files\Content.IE5\3A0Y2GHK\Picture16[1].gif"/>
          <p:cNvPicPr/>
          <p:nvPr/>
        </p:nvPicPr>
        <p:blipFill>
          <a:blip r:embed="rId3"/>
          <a:stretch/>
        </p:blipFill>
        <p:spPr>
          <a:xfrm>
            <a:off x="452520" y="0"/>
            <a:ext cx="1536480" cy="1341360"/>
          </a:xfrm>
          <a:prstGeom prst="rect">
            <a:avLst/>
          </a:prstGeom>
          <a:ln w="0">
            <a:noFill/>
          </a:ln>
        </p:spPr>
      </p:pic>
      <p:sp>
        <p:nvSpPr>
          <p:cNvPr id="55" name="TextBox 8"/>
          <p:cNvSpPr/>
          <p:nvPr/>
        </p:nvSpPr>
        <p:spPr>
          <a:xfrm>
            <a:off x="1630440" y="5753160"/>
            <a:ext cx="33526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7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shondemela.webs.com/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1T08:36:48Z</dcterms:created>
  <dc:creator>faija</dc:creator>
  <dc:description/>
  <dc:language>en-US</dc:language>
  <cp:lastModifiedBy>faija</cp:lastModifiedBy>
  <dcterms:modified xsi:type="dcterms:W3CDTF">2016-04-04T22:48:55Z</dcterms:modified>
  <cp:revision>7</cp:revision>
  <dc:subject/>
  <dc:title>Slide 1</dc:title>
</cp:coreProperties>
</file>